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5D6-441C-4AF2-B76C-6A63404A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E38-E8DB-4DF5-BDA3-6D2601B4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5EE-A4FE-46AD-BC2A-746F7144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F27-A6C5-4936-929F-D0D3B7DB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4D3B-05FE-4CF7-867D-66C88B9F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19FE-B6BC-424D-91A3-4F3A8EF3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C175-A76D-45F2-97AC-BC5869D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F3BF-4046-48E6-A6F7-01CE030C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9394-D75C-45E1-A00D-3679DED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315-757E-4911-AB2E-A0C7706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BA38-3172-467B-BE03-3040664A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2FC8-BCEC-4092-B71A-27E1FD6A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7B44-DEAE-43BE-805D-21F0884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E60F-5716-4E5E-83D3-57C8B0A5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32AB-42CB-49C5-8FF5-9D907426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8824-92CB-4087-96D6-54A0DD1C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242E-5C8F-40F0-9FA6-75664794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CB9A3-2D7E-4C7D-B181-07DD9205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D685-A703-40DA-8258-0010B4A3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41905-A927-4C70-82E2-8D3E9A6C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C4C2-294B-4C43-8296-344C614E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1778-CF74-4A50-AF26-4B16707A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379F-522E-4C2D-B662-3D40F542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AA65-9612-4A4A-9A5F-CF5B73DB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8C420-B346-43E1-AB29-3217B12F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A4A4-1F1D-44BD-88F1-3C508ECF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2D8A-878D-4249-8E84-F38A8DE1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B223-7ADC-4414-85D4-629C98D2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2F9-BF1C-4BCB-9A71-CA5A83A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B33-BFC3-4D0E-B167-871A305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6CD-2153-48D1-A617-2B86EB80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F47-2D80-45C3-BD6B-55DECD41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786-55AB-4097-AF43-199CB4D6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253-0357-47C4-A6D2-4655E5C8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7BB-BA09-42AF-851F-D53D5146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F16-2510-491D-906B-B993A61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ADE2-29D3-4588-9C65-88252E274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3348-564D-4F91-9E47-A258FD03DB3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44C8-C80A-4CBD-AE6A-C02073BAD98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4160" y="341280"/>
            <a:ext cx="636408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Navodila organa upravljanja za izvajanje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upravljalnih preverjanj po 125. členu Uredbe (EU) št. 1303/2013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za programsko obdobje 2014-2020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1.12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Content Placeholder 3" descr=""/>
          <p:cNvPicPr/>
          <p:nvPr/>
        </p:nvPicPr>
        <p:blipFill>
          <a:blip r:embed="rId1"/>
          <a:stretch/>
        </p:blipFill>
        <p:spPr>
          <a:xfrm>
            <a:off x="378000" y="1494000"/>
            <a:ext cx="8119800" cy="490032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everjanje opravljanja prenesenih nalog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Content Placeholder 3" descr=""/>
          <p:cNvPicPr/>
          <p:nvPr/>
        </p:nvPicPr>
        <p:blipFill>
          <a:blip r:embed="rId1"/>
          <a:stretch/>
        </p:blipFill>
        <p:spPr>
          <a:xfrm>
            <a:off x="579600" y="1182600"/>
            <a:ext cx="8064360" cy="533412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9040" y="364680"/>
            <a:ext cx="78264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Nepravilnosti – finančni popravki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529920" y="1080720"/>
            <a:ext cx="7985160" cy="54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zorci prilo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za izvedbo kontrole zahtevka za izplači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po vrsti stroš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za izvedbo javnega naročila po odprtem postopku – ZJN-2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vestilo O IZVEDBI PREVERJANJA NA KRAJU SA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ročila o izvedenem preverjanju na kraju sa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o izvedenem preverjanju na kraju sa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L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o spoštovanju nacionalnih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EU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pravil na področju komuniciranja in informir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L - plačila s poboti (kompenzacija), asignacija, ces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37920" y="365040"/>
            <a:ext cx="78771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iloga navodilo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Content Placeholder 3" descr=""/>
          <p:cNvPicPr/>
          <p:nvPr/>
        </p:nvPicPr>
        <p:blipFill>
          <a:blip r:embed="rId1"/>
          <a:stretch/>
        </p:blipFill>
        <p:spPr>
          <a:xfrm>
            <a:off x="371520" y="1603440"/>
            <a:ext cx="8175600" cy="454176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95440" y="365040"/>
            <a:ext cx="79200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 Light"/>
              </a:rPr>
              <a:t>KL za izvedbo kontrole ZZI</a:t>
            </a:r>
            <a:br>
              <a:rPr sz="4000"/>
            </a:br>
            <a:r>
              <a:rPr b="1" lang="pl-PL" sz="3600" spc="-1" strike="noStrike" u="sng">
                <a:solidFill>
                  <a:srgbClr val="c00000"/>
                </a:solidFill>
                <a:uFillTx/>
                <a:latin typeface="Calibri Light"/>
              </a:rPr>
              <a:t>vedno izpolniti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4" descr="http://zabavno.si/wp-content/uploads/2014/09/vprasanja-odgovori-zabavno.jpg"/>
          <p:cNvPicPr/>
          <p:nvPr/>
        </p:nvPicPr>
        <p:blipFill>
          <a:blip r:embed="rId1"/>
          <a:stretch/>
        </p:blipFill>
        <p:spPr>
          <a:xfrm>
            <a:off x="358920" y="-36360"/>
            <a:ext cx="75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18640" y="364680"/>
            <a:ext cx="70678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00000"/>
                </a:solidFill>
                <a:latin typeface="Calibri Light"/>
              </a:rPr>
              <a:t>Kazal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5" name="Content Placeholder 3" descr=""/>
          <p:cNvPicPr/>
          <p:nvPr/>
        </p:nvPicPr>
        <p:blipFill>
          <a:blip r:embed="rId1"/>
          <a:stretch/>
        </p:blipFill>
        <p:spPr>
          <a:xfrm>
            <a:off x="853920" y="1268280"/>
            <a:ext cx="790596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Content Placeholder 3" descr=""/>
          <p:cNvPicPr/>
          <p:nvPr/>
        </p:nvPicPr>
        <p:blipFill>
          <a:blip r:embed="rId1"/>
          <a:stretch/>
        </p:blipFill>
        <p:spPr>
          <a:xfrm>
            <a:off x="158760" y="890640"/>
            <a:ext cx="9009000" cy="596736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29720" y="174240"/>
            <a:ext cx="7767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avna podlag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Content Placeholder 3" descr=""/>
          <p:cNvPicPr/>
          <p:nvPr/>
        </p:nvPicPr>
        <p:blipFill>
          <a:blip r:embed="rId1"/>
          <a:stretch/>
        </p:blipFill>
        <p:spPr>
          <a:xfrm>
            <a:off x="311040" y="1566720"/>
            <a:ext cx="8266320" cy="485784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Kontrola/preverjanj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217080" y="1535040"/>
            <a:ext cx="876636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4. odstavek 125 čle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(a) preverjanje, ali so bili sofinancirani proizvodi in storitve zagotovljeni ter ali so bili izdatki, ki so jih prijavili upravičenci , plačani in ali so ti v skladu z veljavno zakonodajo, operativnim programom in izpolnjeni pogoji za podporo operaciji; (b) zagotavlja, da upravičenci, vključeni v izvajanje operacij, za katere se vrnejo upravičeni in dejansko nastali izdatki, vodijo ločeno računovodstvo ali ustrezno računovodsko kodo za vse transakcije v zvezi z operacijo; (c) ob upoštevanju ugotovljenih tveganj uvede učinkovite in sorazmerne ukrepe za preprečevanje goljufij; (d) vzpostavi postopke, ki zagotavljajo, da se vsi dokumenti v zvezi z izdatki in revizijami, ki se zahtevajo za zagotovitev ustrezne revizijske sledi, hranijo v skladu z zahtevami iz točke (g) člena 72; (e) pripravi izjavo o upravljanju in letni povzetek iz točk (a) in (b) člena 59(5) finančne uredb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39440" y="365040"/>
            <a:ext cx="777564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125. člen Uredbe (EU) št. 1303/2013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Content Placeholder 3" descr=""/>
          <p:cNvPicPr/>
          <p:nvPr/>
        </p:nvPicPr>
        <p:blipFill>
          <a:blip r:embed="rId1"/>
          <a:stretch/>
        </p:blipFill>
        <p:spPr>
          <a:xfrm>
            <a:off x="407880" y="1298520"/>
            <a:ext cx="8259840" cy="52610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365040"/>
            <a:ext cx="79059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Vrste upravljalnih preverjanj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Content Placeholder 3" descr=""/>
          <p:cNvPicPr/>
          <p:nvPr/>
        </p:nvPicPr>
        <p:blipFill>
          <a:blip r:embed="rId1"/>
          <a:stretch/>
        </p:blipFill>
        <p:spPr>
          <a:xfrm>
            <a:off x="536400" y="1285920"/>
            <a:ext cx="8242560" cy="530388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1360" y="364680"/>
            <a:ext cx="7804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Kdo izvaja upravljalna preverjanj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Content Placeholder 4" descr=""/>
          <p:cNvPicPr/>
          <p:nvPr/>
        </p:nvPicPr>
        <p:blipFill>
          <a:blip r:embed="rId1"/>
          <a:stretch/>
        </p:blipFill>
        <p:spPr>
          <a:xfrm>
            <a:off x="450720" y="1243080"/>
            <a:ext cx="8077320" cy="5310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60240" y="365040"/>
            <a:ext cx="78552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Administrativno preverjanj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Content Placeholder 3" descr=""/>
          <p:cNvPicPr/>
          <p:nvPr/>
        </p:nvPicPr>
        <p:blipFill>
          <a:blip r:embed="rId1"/>
          <a:stretch/>
        </p:blipFill>
        <p:spPr>
          <a:xfrm>
            <a:off x="554040" y="1371600"/>
            <a:ext cx="8188200" cy="48211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37920" y="365040"/>
            <a:ext cx="787716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Preverjanje na kraju same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Irena Brcko Kogoj</cp:lastModifiedBy>
  <dcterms:modified xsi:type="dcterms:W3CDTF">2015-11-30T07:56:54Z</dcterms:modified>
  <cp:revision>57</cp:revision>
  <dc:subject/>
  <dc:title>PowerPoint Presentation</dc:title>
</cp:coreProperties>
</file>